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052-2ED4-42C4-ABD8-579593DD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8F9-06B6-41A2-B06B-40F1E33A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B5873-7F8B-4EC7-9D95-2D7CDAC4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5ACCD-3E04-4F9F-924E-8BC0D20D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123EE-7FEE-49EF-B9F5-1D4F7519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9A8BA-C6E0-419B-A7FE-BE9A42B6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DD680-34DC-48ED-B1FD-D77ED868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7457C-1A9B-408F-A99E-E0ACC23E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245C1-167B-4BF1-9FD0-5AE154DB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51890-129F-480D-AD10-ADA030B5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433B8-97B2-45FA-812B-23A4085E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87391-A13F-4DBB-BC85-32E0DBA7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0B5-7936-4CBC-ABDC-6A0B1424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3CBC5-3343-4753-897E-297CA020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75300-1814-4409-8101-0C207BCD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D91F9-366A-481D-A2A6-0558A9A5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3E40B-2220-446A-A612-6ED4C55E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73B39-6844-4C15-84E1-D5CEF67A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2C55A-813D-41EB-AD8C-E0768A75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D0B1A-9922-4D6B-A721-12CA725C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1ED63-99B9-4054-9FD1-55A79203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F0AC7-56B1-47EE-9A01-97601AD9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EFAC7-65C3-4C2F-8A0B-3BD37AF4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76C-8AE6-4DFD-A937-BCE50E23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2F648-ABEA-46D3-B668-C9A4983B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49630-8EBA-4715-857D-2D9C0998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3EE88-87F9-4BDB-90AF-DE1ECCD7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90751-79A6-4907-8328-1F145FCB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422EF-4340-4DCA-84FB-CE6E0E12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6F6A4-1CAD-4027-8BED-38D0B5B9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E7458-E8D3-4449-8548-8B58DC59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9E700-0996-4C2D-A64A-6FD4FD6B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BEED0-B20D-49CD-ABF9-01B72F45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C47C3-3FC4-4E6A-9123-8BF7AB15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6AF5-8E6B-4A93-A56E-7D879F9C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D3479-1258-456D-9623-E713787C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A163C-5985-4D99-9805-BECD7249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01A90-967B-4556-A9C5-A22D63F4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C8329-2079-48AE-8B68-5660295F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A8129-F6B4-4A76-A0F0-89F622DB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DB47F-FA0A-40B4-81A8-F325855E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A7778-E765-4C90-8596-36BD2851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39717-2CF7-40AC-83D4-E2F32A06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2187D-4DC5-4C45-B00E-38AD66AD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BBF14-615E-43AE-B635-3506D5D4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C6CC-4B2A-44A5-AF7E-FE20F4F1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E4904-22CA-48A6-BB80-41FB98BE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436D8-9BD3-400E-B5FA-3A354690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302B5-0E59-4365-8049-C2F299E1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3D5D7-37B9-4244-BF11-ABA7B8CB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64921-F028-4285-91FB-F1D39AE1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AF7FF-8212-4426-8DF4-6D59B048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0898B-0E71-491D-BC79-5A2E1CBA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1D76D-9D62-4DB1-A2FF-1904075C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FD61E-9EF8-4659-826C-55025C7D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5EB50-EB78-4281-A1CC-C2FA5691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CD7E-76F6-4824-8E2E-CB5CF389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B3D77-944D-4C34-B0E0-686F22A9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21C0F-8D7E-48A0-98E6-B7C0DFB1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5F116-D362-43DA-9249-5F55E348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60216-5832-4BEE-A0FC-18EF0BBF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38743-F4C1-43B5-AEF4-B0BA078D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CBB2D-982B-40C0-AA55-220D408E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D8785-3CDD-42E3-ADE2-C1CEB2DF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30262-8FB9-4E76-ADF0-518184EA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96B3C7-2EF2-44F8-8CA7-A1CFA2CF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82F7F-D7B0-47A2-BAB5-702EE7B7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FF85-51CB-4357-BFFA-608652B3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E2305-71C4-4626-B88A-1641BB8C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42275-5288-4B35-ADEC-5D6872AD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653CF-5B85-4449-A6CA-8064544F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32222-420B-4B8D-9F80-976E14F4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A1148C-AC8C-4BD0-9ABE-048BE55D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8B7F2-D308-43E9-BAD1-3E32724B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45C19-27DC-48BC-9C0B-C81510DF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1E4E6-76C2-4A87-932E-F58C5C82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1F01F-A377-4D52-BBE9-D0C00A85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1C620C-FB75-4217-9AB6-82FA5750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8482-A6A0-4A81-B6E4-36DB0427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4CE031-898B-477F-9FEF-25361DBD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658D2-BF13-4C91-9C5D-1D90A3D3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73D48B-DDAD-499C-A0CC-1F2ED6DA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1BABA-CAFB-486F-A7CF-9382D102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504441-0E76-41BC-8D62-73B18C0F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AA0E32-1E27-49DE-A5FC-F8756FB1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47A761-4DE8-4A85-9257-B3F2E117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644424-1A45-4961-8D58-9BDFE74F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30F7D8-AC3F-42C6-A349-8709FDA0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2E0806-4931-4C59-B527-5DDB7AEC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380E-C712-4739-BC52-EBF20234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42829-3C54-415F-AE53-2025C4EE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C52EEE-76CE-4AA4-87AF-4F1B885A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9377E-57C4-4B9B-A3A3-ED7E3B47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2AF92-C9E0-4D35-BD13-D0ABC0D8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9E8251-293A-44F7-B819-F0302F46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DF32C-AFAB-4638-A89D-76CBB69D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5BD0A1-B47E-437A-B129-F1DE60E0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31A752-96C7-4737-842B-6427EE3F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201C28-C950-4D1A-B05E-414C9D19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D942A2-21F7-4000-8EAA-608182D8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D373-A7C2-44BA-B043-C56E0742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04D550-D729-4CC2-B90D-F050882A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47F01-83EE-4F09-81E9-2E37C384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5295B-7933-4C2A-9ED2-C9BDF1F4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7CAD43-CFE8-4098-BD5E-C4F994DC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8232C4-70BB-4284-82AD-1DEF16AA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0E2F5-6E16-4480-ABC3-513470F2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069AB5-D06A-45DB-B1F8-67753662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8F0336-80CB-4845-B203-9AEFAEE6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A67997-27CB-4DFC-A983-B24AFA06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704596-AC99-4B13-B43E-93120BD8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A754-323E-4E9E-BAB7-CDB9E07F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6A9B-D333-4CE1-A575-78D0F32F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077D6B-6D13-4FE4-A7AE-3F312C52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9447C4-8207-49D1-9F1C-31C71A78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1EA35E-12C2-4C32-94E9-B50CE1FA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45F9AE-F7E9-48A5-AD32-79A6B036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EA858E-4EAA-45D0-845B-2EE38FBD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B36C80-833D-4793-B161-869971BB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DF34F3-AEFD-4275-851A-191043E8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F5CE60-E214-4E83-8D1E-2379F38C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EEAE69-5FE8-410B-BFD7-7120A64E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F391D2-E630-41C1-8512-10FF40C1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C77C-0B2B-475C-AC81-EA421DF2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382A3B-B2E1-4508-AA8E-BC4A4B50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4E9E09-F58F-4736-847F-5D8F34C3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79FD77-F74B-44B0-A8CD-13FD38FC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4E074E-6430-40A8-81C5-9D696BB6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5341AC-4CDE-479A-906C-F81E6610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39E875-CF17-4171-8B87-5B0412B5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45876-75ED-41CA-9216-8259CD31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5D1447-6CA1-42EB-9859-A667A3ED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4DCA1-4726-4C64-A3FD-5365F422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A73059-645A-4D40-96C2-7A945F17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07F0-126A-42E4-8F4D-14078F0F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1DEC14-397C-4204-B885-C25814B0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C31616-7E5F-4B7B-8118-EC19136B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2E6BBF-B703-4386-B54E-CC49EB38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0B16AC-DA4D-4A4F-9489-98BB9B29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B6C8A0-1A4E-40F4-A73F-E2523B70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A88BBB-5323-40DD-9AA3-442B2208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DE9818-A8BF-4F6B-848B-301AD7E1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533321-1223-4D01-AE61-3DE09FC7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97DF0D-A204-4942-B261-81A332D3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EBF0E4-0251-4EEC-BE9A-397F12A2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06B4-86F8-42D6-AAFD-1F4D3B22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678FFA-A92E-42B7-BF1C-FC449FA9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1ABAEE-63CC-4D5E-A681-0FB18866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D12BBC-1220-4DFE-81A9-89CE7552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BB96B7-C012-4653-8820-61A53DB2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E488F-78D9-4E21-8EE6-70307890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B8741D-5FCD-4EBE-A3ED-9531A6FA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714FA3-AEF7-4FC8-8FB8-AD9FEF87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739408-EDBE-4940-B652-4C5C36BC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012BDE-C7DB-4F25-94ED-DE43CD0D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D7C69D-7313-4B33-A86F-BFB7C921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FF24-4E71-4DA8-9763-21B3B9D9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B6A690-D388-4225-A2E3-DE59F193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0987E7-679F-4468-9C26-D6A28BF3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7AAEA5-DE86-4715-ACA4-A43A68AC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EA604D-7A62-4F3D-B73A-A6F23EEA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668792-EF90-4F67-A1AC-22CE1B39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A96D91-08A4-452C-A17A-FA56BD40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104DC7-CC0D-4BF3-9499-B2329FBE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9AF5A1-C40E-4282-882E-24C2F479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E16F0D-E842-48E3-B534-B42C67B0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D376E2-03D5-4528-9345-3EC2FB29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E886D-4E53-42E3-942A-898E9F2E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666FA9-49B5-4AE5-BC3B-860DDB6D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B56C3F-AB29-442B-909C-B802C5FE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FB4079-0D65-4D43-AF09-91273D89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1E15-154C-4638-B0A9-2A3A80AC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534F2-A134-417A-8778-453DD802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FA492-2360-4F68-B587-EEBCAEE1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9261D-76EF-44EC-8D42-9C6F2BBB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475-810A-4BC1-BDFB-D5735899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B2420-5BAB-427D-813C-3250921A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6A21D-67B7-4DFB-BCF8-0A6022AF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4461C-4D06-47DB-81C7-BFF0AD4B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7528-43C1-4925-B168-C8E89EB6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6050-7E0B-464A-BF55-16A5680C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D8E09-DA04-498D-9FCD-00CF71AA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A751-DF9C-4298-9E45-C23E8FAA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3E163-7812-4B84-92E4-A7AB8C6A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B5C05-DB22-414F-9B1D-35D0EF4C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DE6B1-D828-4340-B557-193AEF04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BBF-808C-4D28-8E3B-5BE230B9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8DE61-FAD0-438F-8A4D-2B513F13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C5277-9E9F-4406-B9B2-8628BBE9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9E9FC-98E1-4F19-906B-81D6C946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9FCFA-37E8-4609-AC33-C7F3D197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26E1F-B7EA-45FD-A6CA-CA5FC4D3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F4F26-9617-4584-9C59-CE35D3C4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2A387-0DE2-4D19-8589-B9BC4C80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D01BD-705E-4983-ACB1-84AEC836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DC013-8CEF-4A1A-8EFD-6A9B6498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9D91A-D634-4386-8AA0-21E3745A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53F-9754-42AA-A0FA-1A77A4B9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898B7-CEC2-494B-8C91-B4DE36E0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D8079-AC25-46E9-B9B7-6E8E7AD7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B96B7-CB4F-471A-8B35-49B01421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C86C9-E35E-4337-8FFA-3B4D5CD1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97619-7D3A-4EAD-9655-2BB94A73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E7BB0-6D7E-415F-AA08-92E5D743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FCC1E-85AC-4D75-99F7-7EF8CA6A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26ED2-2918-4FAB-823D-E81E0D7C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0642A-5962-4CA1-875A-3AF7EE95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0B16D-DC7A-4E2F-A85E-62B9C935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A86-469C-430B-8ABA-5EC1AD5A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2F176-4622-4492-A15C-ABE63D86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3F8F9-2924-448B-9D4A-5661E5DF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D0287-53C5-4099-9E39-A62E9146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A9146-08BE-48CE-B241-E455EF26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40F85-8938-4D56-854B-B9403C27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C236F-01D1-4D26-9924-86F95513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4C0CF-2C49-4CFF-B742-233FF31D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2CBDA-FEEC-4D5A-A220-53D85046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19D27-C3F3-4DDA-BFD5-43E2CA62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CBECD-3C46-4D5A-93AD-82126990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C34-B0FE-44BF-9A6E-8AF9581F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0CB35-B63B-4444-A939-AE10BF58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2FC3A-561C-4146-9EFF-7FB8340A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03E44-F599-4145-8E15-C023CE99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8D10E-3C98-4864-8716-9603CB40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4BD82-F46E-4618-8925-A71F3654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4198A-76D3-4A24-816D-2D020514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975D4-77FE-4680-995D-E2782239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BCB9E-3DBB-4E07-84B5-8F5CD10C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CA09B-A784-4957-9BAD-EFE9B77E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E176A-CD19-449D-9667-8E9FED8F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5690-DC25-453D-B5E4-037B4AD4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D1DFD-1462-4947-B613-5F92AC28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46217-39AD-49E8-BF49-62D7FE5F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E3567-E070-4262-B4AA-A67E4BB5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798E3-C97D-452B-95E0-42442A9E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457B4-2D8F-4AD6-AEA0-2A1CAB05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21D98-7398-4BC6-817D-F7149670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2891F-1429-4FCC-96F9-2065EBFD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FF0F6-5F3A-4A7C-91AD-271A6D1B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2A8F4-A1E0-4243-B3D2-FE1731B6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B5A43-F3F4-4FE2-A3A0-75A061F1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FE3-C264-4E4A-8A82-1AD98E72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51AFE-649A-4089-8FEB-0D4C4302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540E8-35FA-45F3-9217-305F779A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E9901-E314-4C60-9550-6155FDB4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57C34-96DC-4A6C-92CA-66722416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247FD-C8C1-4DCD-AA0E-9041A0D2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9088E-1931-44C7-BF6F-363C3045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C7364-D07F-4F71-8730-81DDFFCD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0A95D-C25D-48C9-9032-47611FD4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F6924-EB98-47E1-890E-EA07942E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87885-ABD7-48B2-B333-F05CD7A6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719C-D916-4ADA-97A2-CC7B08F32E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8F6F-F08E-46BC-B0AA-1BA7368876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45BA-BF5C-429F-9621-FA2800641A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18B1-B10B-4843-B6EA-059F3DB497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AAC4-A5B3-457F-807A-7C59994543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141D-8CB7-401F-BA94-66C03ED4EF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09F0-C6C3-48FA-A2C8-918B092CC1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FBB9-45AC-4995-BAB7-493CA5F236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93E2-DECB-4842-83CC-EFC98B390A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CFB1-F22F-4B6C-BFC1-CFBE996266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1423-1311-49D9-85FE-8D7892AF2D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1264-1CAA-4671-A290-9BB2897E4A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C8B2-C5DE-443A-B7BA-8E92D0D5CF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54E5-76DB-433E-AD8C-36457E34D3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53AC-6F40-48A4-AF3F-6535FD1E50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8FA1-CD48-402B-B1F2-E49D7F324E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CDCB-2706-40A5-869A-3618DE79F1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5352-6677-471C-B62E-584D48EFE1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7574-FEF4-4579-B87F-8C42B4AA0D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D32E-0A00-4BF3-B23E-4D7CA695DE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2846-F46A-403A-920E-91E275FAF7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AD52-F107-4D2E-A168-4027646E5F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CA6B-72AF-4896-AE4D-FBBC716961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0DF3-393F-4176-9350-5DDD64BA63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338B-6A88-4ED5-8369-25B23E41D7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71F2-394E-4ABA-8983-44A9928A96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5280-09B9-461E-BFC3-74F930AA7B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0F39-2717-457C-A455-8DB863BDA9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9E90-AE02-49DD-A1EE-58B89441CD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C5A4-60C5-4B36-8604-F412C5DAC3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E65C-3617-43F0-89AC-FB9F35C959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B546-1B48-4B86-B88E-C469AF9F15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6E6D-106D-4167-B607-DBAD636809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F7E5-7BC1-47BF-83C4-8F33BCF783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A8A7-1A69-469C-8F70-8953200078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5AAD-4373-46D2-89BF-727C8ADF4B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C9E7-94A0-4C33-836D-EBB7ACD0E6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C9C0-DC2F-4C72-AFED-A63FBDAA9A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F959-8F48-48D9-9150-D03972FB2B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ABC9-487D-4C41-94AF-3EB7B57104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752480" y="2962440"/>
            <a:ext cx="563904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9633" descr=""/>
          <p:cNvPicPr/>
          <p:nvPr/>
        </p:nvPicPr>
        <p:blipFill>
          <a:blip r:embed="rId1"/>
          <a:stretch/>
        </p:blipFill>
        <p:spPr>
          <a:xfrm>
            <a:off x="309600" y="919080"/>
            <a:ext cx="8524800" cy="5019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4032000" cy="9352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619272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971640" y="5300640"/>
            <a:ext cx="619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23920" y="652320"/>
            <a:ext cx="8696160" cy="55533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050920" y="40482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050920" y="4581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732720" y="4292640"/>
            <a:ext cx="10792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916360" y="5157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219640" y="5445000"/>
            <a:ext cx="107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585720" y="1143000"/>
            <a:ext cx="7972560" cy="4572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3635280" y="1197000"/>
            <a:ext cx="86544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5580000" y="2333520"/>
            <a:ext cx="43200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7093080" y="170028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2987640" y="33861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4211640" y="42782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6227640" y="4681440"/>
            <a:ext cx="100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585720" y="974880"/>
            <a:ext cx="7972560" cy="53337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1079640" cy="7920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164360" y="1844640"/>
            <a:ext cx="792360" cy="993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3419640" y="306864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7380360" y="299736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3492360" y="4221000"/>
            <a:ext cx="1079640" cy="7923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7380360" y="41497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2771640" y="5300640"/>
            <a:ext cx="1079640" cy="9367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7323120" y="5300640"/>
            <a:ext cx="1079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7352" descr=""/>
          <p:cNvPicPr/>
          <p:nvPr/>
        </p:nvPicPr>
        <p:blipFill>
          <a:blip r:embed="rId1"/>
          <a:stretch/>
        </p:blipFill>
        <p:spPr>
          <a:xfrm>
            <a:off x="304920" y="1319040"/>
            <a:ext cx="8534160" cy="4219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7056360" cy="1728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971640" y="4349880"/>
            <a:ext cx="568944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6324" descr=""/>
          <p:cNvPicPr/>
          <p:nvPr/>
        </p:nvPicPr>
        <p:blipFill>
          <a:blip r:embed="rId1"/>
          <a:stretch/>
        </p:blipFill>
        <p:spPr>
          <a:xfrm>
            <a:off x="281160" y="1609560"/>
            <a:ext cx="8581680" cy="36388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5473800" cy="1008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1042920" y="4508640"/>
            <a:ext cx="54738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5300" descr=""/>
          <p:cNvPicPr/>
          <p:nvPr/>
        </p:nvPicPr>
        <p:blipFill>
          <a:blip r:embed="rId1"/>
          <a:stretch/>
        </p:blipFill>
        <p:spPr>
          <a:xfrm>
            <a:off x="314280" y="1228680"/>
            <a:ext cx="8515440" cy="4400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1042920" y="4005360"/>
            <a:ext cx="6193080" cy="863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826920" y="5013360"/>
            <a:ext cx="75614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295200" y="1347840"/>
            <a:ext cx="8553600" cy="41623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1042920" y="3429000"/>
            <a:ext cx="5329440" cy="9367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971640" y="4522680"/>
            <a:ext cx="5329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285840" y="304920"/>
            <a:ext cx="8572320" cy="62481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684360" y="4653000"/>
            <a:ext cx="7416720" cy="12970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971640" y="6107040"/>
            <a:ext cx="720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33:4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